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8.jpeg" ContentType="image/jpeg"/>
  <Override PartName="/ppt/media/image6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99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2.1-</a:t>
            </a:r>
            <a:fld id="{CB17D1EC-7AD2-49B0-B95E-DA7E86ABBAAD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5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99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PB03_CA_Book_Cover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Rectangl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5" descr="AW_Jen_Bittinger_ColAlgGM_4e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elative Maximum and Minimum Value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 flipV="1">
            <a:off x="2743200" y="2285640"/>
            <a:ext cx="0" cy="30481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2209680" y="4952880"/>
            <a:ext cx="41911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28600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17220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505320" y="49528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4114800" y="4952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4648320" y="4952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2"/>
          <p:cNvSpPr/>
          <p:nvPr/>
        </p:nvSpPr>
        <p:spPr>
          <a:xfrm>
            <a:off x="3124080" y="2895480"/>
            <a:ext cx="1676520" cy="152424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1008" h="960">
                <a:moveTo>
                  <a:pt x="0" y="336"/>
                </a:moveTo>
                <a:cubicBezTo>
                  <a:pt x="112" y="648"/>
                  <a:pt x="224" y="960"/>
                  <a:pt x="336" y="912"/>
                </a:cubicBezTo>
                <a:cubicBezTo>
                  <a:pt x="448" y="864"/>
                  <a:pt x="560" y="96"/>
                  <a:pt x="672" y="48"/>
                </a:cubicBezTo>
                <a:cubicBezTo>
                  <a:pt x="784" y="0"/>
                  <a:pt x="896" y="312"/>
                  <a:pt x="1008" y="624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3"/>
          <p:cNvSpPr/>
          <p:nvPr/>
        </p:nvSpPr>
        <p:spPr>
          <a:xfrm>
            <a:off x="4800600" y="1981080"/>
            <a:ext cx="1066680" cy="19051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672" h="1200">
                <a:moveTo>
                  <a:pt x="0" y="1200"/>
                </a:moveTo>
                <a:cubicBezTo>
                  <a:pt x="16" y="964"/>
                  <a:pt x="32" y="728"/>
                  <a:pt x="144" y="528"/>
                </a:cubicBezTo>
                <a:cubicBezTo>
                  <a:pt x="256" y="328"/>
                  <a:pt x="464" y="164"/>
                  <a:pt x="672" y="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5486400" y="37339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Relative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048120" y="16002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Relative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4114800" y="24382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H="1">
            <a:off x="3809520" y="41911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 flipH="1" flipV="1">
            <a:off x="4876560" y="396216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3657600" y="4343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4267080" y="2971800"/>
            <a:ext cx="0" cy="19810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4800600" y="3886200"/>
            <a:ext cx="0" cy="10666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518148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pplications of Functions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9250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real-world situations can be modeled by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n plans to enclose a rectangular area using 80 yards of fencing. If the area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ards wide, express the enclosed area as a fun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area as a fun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Since the area is rectangular, we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know that the perimeter, 2 lengths and 2 widths, is 80 yds, so we have 40 yds for one length and one width.  If the width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length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n be given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0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(40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unctions Defined Piecewis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105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function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3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0" y="0"/>
          <a:ext cx="91440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6"/>
          <p:cNvGraphicFramePr/>
          <p:nvPr/>
        </p:nvGraphicFramePr>
        <p:xfrm>
          <a:off x="4495680" y="2362320"/>
          <a:ext cx="3348000" cy="149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362320"/>
                    <a:ext cx="3348000" cy="14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14"/>
          <p:cNvSpPr/>
          <p:nvPr/>
        </p:nvSpPr>
        <p:spPr>
          <a:xfrm>
            <a:off x="990720" y="99072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functions are defin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ece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different output formulas for different parts of the do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914400" y="419112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–3     0,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3) = (–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0 &lt; 1    2,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4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=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 5 &gt; 2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 = 5 – 1 =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16"/>
          <p:cNvGraphicFramePr/>
          <p:nvPr/>
        </p:nvGraphicFramePr>
        <p:xfrm>
          <a:off x="2209680" y="4267080"/>
          <a:ext cx="246240" cy="29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267080"/>
                    <a:ext cx="24624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7"/>
          <p:cNvGraphicFramePr/>
          <p:nvPr/>
        </p:nvGraphicFramePr>
        <p:xfrm>
          <a:off x="2514600" y="4800600"/>
          <a:ext cx="246240" cy="29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4800600"/>
                    <a:ext cx="24624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4191120" y="56386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We grap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eater than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unctions Defined Piecewis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the function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We grap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inpu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ss than or equal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We grap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inpu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eater than 0  and less than or equal to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0" y="0"/>
          <a:ext cx="91440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6"/>
          <p:cNvGraphicFramePr/>
          <p:nvPr/>
        </p:nvGraphicFramePr>
        <p:xfrm>
          <a:off x="838080" y="1600200"/>
          <a:ext cx="3473640" cy="19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600200"/>
                    <a:ext cx="347364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Group 12"/>
          <p:cNvGrpSpPr/>
          <p:nvPr/>
        </p:nvGrpSpPr>
        <p:grpSpPr>
          <a:xfrm>
            <a:off x="4800600" y="1295280"/>
            <a:ext cx="4199040" cy="3736080"/>
            <a:chOff x="4800600" y="1295280"/>
            <a:chExt cx="4199040" cy="3736080"/>
          </a:xfrm>
        </p:grpSpPr>
        <p:pic>
          <p:nvPicPr>
            <p:cNvPr id="157" name="Picture 4" descr=""/>
            <p:cNvPicPr/>
            <p:nvPr/>
          </p:nvPicPr>
          <p:blipFill>
            <a:blip r:embed="rId5"/>
            <a:stretch/>
          </p:blipFill>
          <p:spPr>
            <a:xfrm>
              <a:off x="5105520" y="1295280"/>
              <a:ext cx="3333600" cy="33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4800600" y="3962160"/>
              <a:ext cx="1676520" cy="307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, fo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6705720" y="4724280"/>
              <a:ext cx="2209680" cy="307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 +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, for 0 &lt;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 flipH="1" flipV="1">
              <a:off x="7238880" y="3352680"/>
              <a:ext cx="533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1" name="Object 10"/>
            <p:cNvGraphicFramePr/>
            <p:nvPr/>
          </p:nvGraphicFramePr>
          <p:xfrm>
            <a:off x="7391520" y="1981080"/>
            <a:ext cx="1608120" cy="458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2" name="Object 1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391520" y="1981080"/>
                      <a:ext cx="1608120" cy="45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3" name="Object 11"/>
          <p:cNvGraphicFramePr/>
          <p:nvPr/>
        </p:nvGraphicFramePr>
        <p:xfrm>
          <a:off x="6629400" y="5410080"/>
          <a:ext cx="630360" cy="74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4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29400" y="5410080"/>
                    <a:ext cx="6303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2971800" y="15238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the greatest integ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 or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qual to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eatest Integer Func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0"/>
          <a:ext cx="91440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13"/>
          <p:cNvGraphicFramePr/>
          <p:nvPr/>
        </p:nvGraphicFramePr>
        <p:xfrm>
          <a:off x="1066680" y="4267080"/>
          <a:ext cx="601920" cy="16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267080"/>
                    <a:ext cx="60192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17"/>
          <p:cNvGraphicFramePr/>
          <p:nvPr/>
        </p:nvGraphicFramePr>
        <p:xfrm>
          <a:off x="990720" y="1523880"/>
          <a:ext cx="2043000" cy="58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523880"/>
                    <a:ext cx="204300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Line 18"/>
          <p:cNvSpPr/>
          <p:nvPr/>
        </p:nvSpPr>
        <p:spPr>
          <a:xfrm>
            <a:off x="1676520" y="4419720"/>
            <a:ext cx="68580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 flipV="1">
            <a:off x="1676520" y="5181120"/>
            <a:ext cx="6858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0"/>
          <p:cNvSpPr/>
          <p:nvPr/>
        </p:nvSpPr>
        <p:spPr>
          <a:xfrm>
            <a:off x="1752480" y="495288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914400" y="266688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eatest integer function pairs the input with the greatest integ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in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243828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23"/>
          <p:cNvGraphicFramePr/>
          <p:nvPr/>
        </p:nvGraphicFramePr>
        <p:xfrm>
          <a:off x="3214800" y="4267080"/>
          <a:ext cx="419040" cy="166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14800" y="4267080"/>
                    <a:ext cx="41904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24"/>
          <p:cNvSpPr/>
          <p:nvPr/>
        </p:nvSpPr>
        <p:spPr>
          <a:xfrm>
            <a:off x="3733920" y="4419720"/>
            <a:ext cx="68580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5"/>
          <p:cNvSpPr/>
          <p:nvPr/>
        </p:nvSpPr>
        <p:spPr>
          <a:xfrm flipV="1">
            <a:off x="3733920" y="5181120"/>
            <a:ext cx="6858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3809880" y="495288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449568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28"/>
          <p:cNvGraphicFramePr/>
          <p:nvPr/>
        </p:nvGraphicFramePr>
        <p:xfrm>
          <a:off x="5486400" y="4191120"/>
          <a:ext cx="419040" cy="166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86400" y="4191120"/>
                    <a:ext cx="419040" cy="16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Line 29"/>
          <p:cNvSpPr/>
          <p:nvPr/>
        </p:nvSpPr>
        <p:spPr>
          <a:xfrm>
            <a:off x="6005520" y="4343400"/>
            <a:ext cx="68580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 flipV="1">
            <a:off x="6005520" y="5105520"/>
            <a:ext cx="685800" cy="304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6081840" y="487692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6767640" y="4648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Determine the intervals on which the function is (a) increasing, (b) decreasing, and © constant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92" name="Content Placeholder 5" descr="col_alg_tut32ex6a.gif"/>
          <p:cNvPicPr/>
          <p:nvPr/>
        </p:nvPicPr>
        <p:blipFill>
          <a:blip r:embed="rId1"/>
          <a:srcRect l="21607" t="0" r="21664" b="0"/>
          <a:stretch/>
        </p:blipFill>
        <p:spPr>
          <a:xfrm>
            <a:off x="698400" y="569880"/>
            <a:ext cx="5550120" cy="5754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Determine the domain and range of the function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96" name="Content Placeholder 5" descr="col_alg_tut32ex6a.gif"/>
          <p:cNvPicPr/>
          <p:nvPr/>
        </p:nvPicPr>
        <p:blipFill>
          <a:blip r:embed="rId1"/>
          <a:stretch/>
        </p:blipFill>
        <p:spPr>
          <a:xfrm>
            <a:off x="747720" y="1676520"/>
            <a:ext cx="5641920" cy="33177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Determine any relative maxima or minima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200" name="Content Placeholder 5" descr="col_alg_tut32ex6a.gif"/>
          <p:cNvPicPr/>
          <p:nvPr/>
        </p:nvPicPr>
        <p:blipFill>
          <a:blip r:embed="rId1"/>
          <a:stretch/>
        </p:blipFill>
        <p:spPr>
          <a:xfrm>
            <a:off x="747720" y="1676520"/>
            <a:ext cx="5641920" cy="33177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Determine the intervals on which the function is (a) increasing, (b) decreasing, and © constant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Content Placeholder 7" descr="f0048-02.jpg"/>
          <p:cNvPicPr/>
          <p:nvPr/>
        </p:nvPicPr>
        <p:blipFill>
          <a:blip r:embed="rId1"/>
          <a:stretch/>
        </p:blipFill>
        <p:spPr>
          <a:xfrm>
            <a:off x="1066680" y="1947960"/>
            <a:ext cx="3581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Determine the domain and range of the function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Content Placeholder 7" descr="f0048-02.jpg"/>
          <p:cNvPicPr/>
          <p:nvPr/>
        </p:nvPicPr>
        <p:blipFill>
          <a:blip r:embed="rId1"/>
          <a:stretch/>
        </p:blipFill>
        <p:spPr>
          <a:xfrm>
            <a:off x="1066680" y="1947960"/>
            <a:ext cx="3581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hapter 1 Tes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:  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:  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dow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 A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 B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C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D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F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1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Determine any relative maxima or minima</a:t>
            </a:r>
            <a:endParaRPr b="0" lang="en-US" sz="2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Content Placeholder 7" descr="f0048-02.jpg"/>
          <p:cNvPicPr/>
          <p:nvPr/>
        </p:nvPicPr>
        <p:blipFill>
          <a:blip r:embed="rId1"/>
          <a:stretch/>
        </p:blipFill>
        <p:spPr>
          <a:xfrm>
            <a:off x="1066680" y="1947960"/>
            <a:ext cx="3581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Graph the function. Estimate the intervals on which the function is increasing or decreasing and any relative maxima or minima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Content Placeholder 5"/>
              <p:cNvSpPr txBox="1"/>
              <p:nvPr/>
            </p:nvSpPr>
            <p:spPr>
              <a:xfrm>
                <a:off x="685800" y="3370320"/>
                <a:ext cx="3962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raph the function using the given viewing window.  Find the intervals on which the function is increasing or decreasing and find any relative maxima or minima.</a:t>
            </a:r>
            <a:endParaRPr b="0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Content Placeholder 5"/>
              <p:cNvSpPr txBox="1"/>
              <p:nvPr/>
            </p:nvSpPr>
            <p:spPr>
              <a:xfrm>
                <a:off x="1447920" y="1752480"/>
                <a:ext cx="36748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−</m:t>
                        </m:r>
                        <m:r>
                          <m:t xml:space="preserve">3,7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 each piecewise function, find the specified function values.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Content Placeholder 5"/>
              <p:cNvSpPr txBox="1"/>
              <p:nvPr/>
            </p:nvSpPr>
            <p:spPr>
              <a:xfrm>
                <a:off x="838080" y="1905120"/>
                <a:ext cx="42814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or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o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</m:eqArr>
                        <m:d>
                          <m:dPr>
                            <m:begChr m:val="{"/>
                            <m:endChr m:val="}"/>
                          </m:dPr>
                        </m:d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ttp://www.education.com/study-help/article/pre-calculus-help-practice-functions/</a:t>
            </a:r>
            <a:endParaRPr b="0" lang="en-US" sz="2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4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8002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2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More on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360" y="22856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  Increasing, Decreasing, and Piecewi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tions;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2  The Algebra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3  The Composition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4  Symmetry and Transform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  Variation an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2.1 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creasing, Decreasing, and Piecewise Functions; Applications</a:t>
            </a:r>
            <a:br>
              <a:rPr sz="3200"/>
            </a:b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functions, looking for intervals on whic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function is increasing, decreasing,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ant, and estimate relative maxima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ni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n application, find a function that models the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lication; find the domain of the function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values, and then graph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functions defined piecew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creasing, Decreasing, and Constant Function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88960"/>
            <a:ext cx="8076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given interval, if the graph of a function rises from left to right, it is said to b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increas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at interval. If the graph drops from left to right, it is said to b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decrea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function values stay the same from left to right, the function is said to b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onsta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fini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88560" y="152388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aid to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v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f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at interv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01_01"/>
          <p:cNvPicPr/>
          <p:nvPr/>
        </p:nvPicPr>
        <p:blipFill>
          <a:blip r:embed="rId1"/>
          <a:stretch/>
        </p:blipFill>
        <p:spPr>
          <a:xfrm>
            <a:off x="5351400" y="1523880"/>
            <a:ext cx="269712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finitions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88560" y="152388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aid to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v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f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at interv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01_02"/>
          <p:cNvPicPr/>
          <p:nvPr/>
        </p:nvPicPr>
        <p:blipFill>
          <a:blip r:embed="rId1"/>
          <a:stretch/>
        </p:blipFill>
        <p:spPr>
          <a:xfrm>
            <a:off x="5372280" y="1523880"/>
            <a:ext cx="270504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88560" y="1523880"/>
            <a:ext cx="3963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aid to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v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at interval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finitions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108" name="Picture 7" descr="01_03"/>
          <p:cNvPicPr/>
          <p:nvPr/>
        </p:nvPicPr>
        <p:blipFill>
          <a:blip r:embed="rId1"/>
          <a:stretch/>
        </p:blipFill>
        <p:spPr>
          <a:xfrm>
            <a:off x="5181480" y="1523880"/>
            <a:ext cx="3272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elative Maximum and Minimum Value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unction for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ists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a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relative maximu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exist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a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relative minimu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exist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beasoa</cp:lastModifiedBy>
  <dcterms:modified xsi:type="dcterms:W3CDTF">2012-09-10T18:55:41Z</dcterms:modified>
  <cp:revision>223</cp:revision>
  <dc:subject/>
  <dc:title>No Slide Title</dc:title>
</cp:coreProperties>
</file>